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872-F273-4A61-864A-5AA79A63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9E9-DA14-4AB1-B1BC-6EB9DD78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B96-2C3A-44F0-B45B-2B246093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D8C-5D9A-4AD8-88DD-D8AC515D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13A-7B47-42FA-8F44-1C178B70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12F-4FB0-4480-AB00-EEE54B37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F10-AEC1-4F2E-8ACE-E256625C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5F3-FB65-4D4F-9AE3-FD26C145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E06-282F-4CFD-83E7-6502950B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540-576A-480F-8019-52F72148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71F-0160-4B47-895B-0BF42368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4EE-E69D-4239-A5C5-AA16F437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1FFF-A594-4979-AB8C-1A1D73E57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8:30:10Z</dcterms:created>
  <dc:creator>abeason</dc:creator>
  <dc:description/>
  <dc:language>en-US</dc:language>
  <cp:lastModifiedBy>abeason</cp:lastModifiedBy>
  <dcterms:modified xsi:type="dcterms:W3CDTF">2008-11-20T18:30:14Z</dcterms:modified>
  <cp:revision>1</cp:revision>
  <dc:subject/>
  <dc:title>Slide 1</dc:title>
</cp:coreProperties>
</file>